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C76-8E33-40E6-B9E1-5CCEAC1F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47A-DEF6-453E-AE30-62B54A9C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DB7-4225-4E90-80ED-4ABE3ABF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D80D-EBCD-4CCB-9418-B43C0F1B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949C-AEFE-42F3-A84C-0F09DEBA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A308-07D6-4287-881C-B01C548E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F4C9-40D0-49A6-9A3E-96495A0C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B382-3185-4127-B8F9-1B819BAE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4CE9-2B98-47A9-9BB0-982DE89E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8B74-205D-4EDD-AB4D-5C575658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8DBB-0DF3-4056-B207-94FC094F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E34-239B-44BE-93C2-E1AF597F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10A2-F9C3-4609-BC65-5336951D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429B-5834-41AC-9367-5FD14CD3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63A2-3F9B-42BD-937C-64D68F19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BF72-8147-4CB2-B935-9B96F232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5D60-CC33-417F-A4E8-A105EA3E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608-83BD-43E0-94CA-C9893E30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8A1-8AE1-47A7-A443-E4E32D67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A41-F1E6-413F-AD2F-936F9401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4870-520F-4D09-B364-AAF9FE50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4ED-E5C1-4252-94A7-8BBE854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366-D751-4A14-B157-F16D4568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396-3365-433A-8D2F-7A08E1B9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670A-61D1-46D0-A733-FD8EBEF586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1388-21F8-4D4E-8F46-9651225CA0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cclaimstockphotography.com/_gallery/_pages/0020-0310-2419-2803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610480" cy="1347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Different Landforms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8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y Jena Carro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9" descr="MPj04331320000[1]"/>
          <p:cNvPicPr/>
          <p:nvPr/>
        </p:nvPicPr>
        <p:blipFill>
          <a:blip r:embed="rId1"/>
          <a:stretch/>
        </p:blipFill>
        <p:spPr>
          <a:xfrm>
            <a:off x="3200400" y="34290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coast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403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 coast is the area where the ocean touches the land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9" descr="MPj04009440000[1]"/>
          <p:cNvPicPr/>
          <p:nvPr/>
        </p:nvPicPr>
        <p:blipFill>
          <a:blip r:embed="rId1"/>
          <a:stretch/>
        </p:blipFill>
        <p:spPr>
          <a:xfrm>
            <a:off x="380880" y="2590920"/>
            <a:ext cx="44276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desert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3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 desert is a hot dry place with little or no rain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9" descr="MPj04365970000[1]"/>
          <p:cNvPicPr/>
          <p:nvPr/>
        </p:nvPicPr>
        <p:blipFill>
          <a:blip r:embed="rId1"/>
          <a:stretch/>
        </p:blipFill>
        <p:spPr>
          <a:xfrm>
            <a:off x="457200" y="2362320"/>
            <a:ext cx="441972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river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19360" y="213336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river is a long flowing body of wate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1" descr="MPj04034360000[1]"/>
          <p:cNvPicPr/>
          <p:nvPr/>
        </p:nvPicPr>
        <p:blipFill>
          <a:blip r:embed="rId1"/>
          <a:stretch/>
        </p:blipFill>
        <p:spPr>
          <a:xfrm>
            <a:off x="609480" y="2362320"/>
            <a:ext cx="390204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Now let’s review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3139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 _________ is water with land all around it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60199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sla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ak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6019920" y="23623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MPj04340860000[1]"/>
          <p:cNvPicPr/>
          <p:nvPr/>
        </p:nvPicPr>
        <p:blipFill>
          <a:blip r:embed="rId1"/>
          <a:stretch/>
        </p:blipFill>
        <p:spPr>
          <a:xfrm>
            <a:off x="5181480" y="3124080"/>
            <a:ext cx="3581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What is the largest body of water on Earth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ak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i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6477120" y="289548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6" descr="MPj04331880000[1]"/>
          <p:cNvPicPr/>
          <p:nvPr/>
        </p:nvPicPr>
        <p:blipFill>
          <a:blip r:embed="rId1"/>
          <a:stretch/>
        </p:blipFill>
        <p:spPr>
          <a:xfrm>
            <a:off x="5257800" y="3886200"/>
            <a:ext cx="3733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 _______ is higher than the land around it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sla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ount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Valle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943600" y="30481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6" descr="MPj04340640000[1]"/>
          <p:cNvPicPr/>
          <p:nvPr/>
        </p:nvPicPr>
        <p:blipFill>
          <a:blip r:embed="rId1"/>
          <a:stretch/>
        </p:blipFill>
        <p:spPr>
          <a:xfrm>
            <a:off x="4876920" y="3886200"/>
            <a:ext cx="40384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What is a flowing body of water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Platea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Lak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i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6172200" y="28195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MPj04034360000[1]"/>
          <p:cNvPicPr/>
          <p:nvPr/>
        </p:nvPicPr>
        <p:blipFill>
          <a:blip r:embed="rId1"/>
          <a:stretch/>
        </p:blipFill>
        <p:spPr>
          <a:xfrm>
            <a:off x="5029200" y="3581280"/>
            <a:ext cx="39020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I am land and have water all around me.  What am I?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sla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oa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1001"/>
              </a:spcBef>
              <a:buClr>
                <a:srgbClr val="ffcc66"/>
              </a:buClr>
              <a:buSzPct val="80000"/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6172200" y="327672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i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4952880" y="4038480"/>
            <a:ext cx="40528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Congratulations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Picture 8" descr="MCj04315590000[1]"/>
          <p:cNvPicPr/>
          <p:nvPr/>
        </p:nvPicPr>
        <p:blipFill>
          <a:blip r:embed="rId1"/>
          <a:stretch/>
        </p:blipFill>
        <p:spPr>
          <a:xfrm>
            <a:off x="2438280" y="1905120"/>
            <a:ext cx="4267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cc"/>
                </a:solidFill>
                <a:uFillTx/>
                <a:latin typeface="Comic Sans MS"/>
              </a:rPr>
              <a:t>Types of Landform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1.  Mountai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6.  Lake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2.  Valley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7.  Oce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3.  Plain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8.  Co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4.  Plateau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9.  Desert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5.  Island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   10.  Ri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MCj04247580000[1]"/>
          <p:cNvPicPr/>
          <p:nvPr/>
        </p:nvPicPr>
        <p:blipFill>
          <a:blip r:embed="rId1"/>
          <a:stretch/>
        </p:blipFill>
        <p:spPr>
          <a:xfrm>
            <a:off x="7467480" y="4876920"/>
            <a:ext cx="14986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Images are from: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14400" y="16002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s 1, 2, 3, 4, 5, 8, 9, 10, 11, 12, 14, 15, 16, 17, 19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crosoft Office Clip A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lide 6, 7, 13, 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Print Shop 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Comic Sans MS"/>
              </a:rPr>
              <a:t>mountai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mountain is a place on Earth’s surface that is much higher than the land around it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Group 14"/>
          <p:cNvGrpSpPr/>
          <p:nvPr/>
        </p:nvGrpSpPr>
        <p:grpSpPr>
          <a:xfrm>
            <a:off x="1154160" y="2278080"/>
            <a:ext cx="6835680" cy="2301840"/>
            <a:chOff x="1154160" y="2278080"/>
            <a:chExt cx="6835680" cy="2301840"/>
          </a:xfrm>
        </p:grpSpPr>
        <p:sp>
          <p:nvSpPr>
            <p:cNvPr id="97" name="Rectangle 9"/>
            <p:cNvSpPr/>
            <p:nvPr/>
          </p:nvSpPr>
          <p:spPr>
            <a:xfrm>
              <a:off x="1154160" y="2278080"/>
              <a:ext cx="6835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8" name="Group 13"/>
            <p:cNvGrpSpPr/>
            <p:nvPr/>
          </p:nvGrpSpPr>
          <p:grpSpPr>
            <a:xfrm>
              <a:off x="1154160" y="2278080"/>
              <a:ext cx="3257640" cy="2301840"/>
              <a:chOff x="1154160" y="2278080"/>
              <a:chExt cx="3257640" cy="2301840"/>
            </a:xfrm>
          </p:grpSpPr>
          <p:sp>
            <p:nvSpPr>
              <p:cNvPr id="99" name="Rectangle 10"/>
              <p:cNvSpPr/>
              <p:nvPr/>
            </p:nvSpPr>
            <p:spPr>
              <a:xfrm>
                <a:off x="1154160" y="2278080"/>
                <a:ext cx="3257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1"/>
              <p:cNvSpPr/>
              <p:nvPr/>
            </p:nvSpPr>
            <p:spPr>
              <a:xfrm>
                <a:off x="1154160" y="2278080"/>
                <a:ext cx="3257640" cy="230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121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01" name="Picture 18" descr="MPj04340640000[1]"/>
          <p:cNvPicPr/>
          <p:nvPr/>
        </p:nvPicPr>
        <p:blipFill>
          <a:blip r:embed="rId1"/>
          <a:stretch/>
        </p:blipFill>
        <p:spPr>
          <a:xfrm>
            <a:off x="304920" y="2133720"/>
            <a:ext cx="449568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Comic Sans MS"/>
              </a:rPr>
              <a:t>valley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403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 valley is a low area between higher lands such as mountain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" name="Group 9"/>
          <p:cNvGrpSpPr/>
          <p:nvPr/>
        </p:nvGrpSpPr>
        <p:grpSpPr>
          <a:xfrm>
            <a:off x="1143000" y="2835360"/>
            <a:ext cx="6858000" cy="1189080"/>
            <a:chOff x="1143000" y="2835360"/>
            <a:chExt cx="6858000" cy="1189080"/>
          </a:xfrm>
        </p:grpSpPr>
        <p:sp>
          <p:nvSpPr>
            <p:cNvPr id="106" name="Rectangle 6"/>
            <p:cNvSpPr/>
            <p:nvPr/>
          </p:nvSpPr>
          <p:spPr>
            <a:xfrm>
              <a:off x="1143000" y="283536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1143000" y="2835360"/>
              <a:ext cx="68580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cc66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48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8" name="Group 17"/>
          <p:cNvGrpSpPr/>
          <p:nvPr/>
        </p:nvGrpSpPr>
        <p:grpSpPr>
          <a:xfrm>
            <a:off x="1154160" y="1981080"/>
            <a:ext cx="6835680" cy="2895480"/>
            <a:chOff x="1154160" y="1981080"/>
            <a:chExt cx="6835680" cy="2895480"/>
          </a:xfrm>
        </p:grpSpPr>
        <p:sp>
          <p:nvSpPr>
            <p:cNvPr id="109" name="Rectangle 12"/>
            <p:cNvSpPr/>
            <p:nvPr/>
          </p:nvSpPr>
          <p:spPr>
            <a:xfrm>
              <a:off x="1154160" y="1981080"/>
              <a:ext cx="6835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0" name="Group 16"/>
            <p:cNvGrpSpPr/>
            <p:nvPr/>
          </p:nvGrpSpPr>
          <p:grpSpPr>
            <a:xfrm>
              <a:off x="1154160" y="1981080"/>
              <a:ext cx="3257640" cy="2895480"/>
              <a:chOff x="1154160" y="1981080"/>
              <a:chExt cx="3257640" cy="2895480"/>
            </a:xfrm>
          </p:grpSpPr>
          <p:sp>
            <p:nvSpPr>
              <p:cNvPr id="111" name="Rectangle 13"/>
              <p:cNvSpPr/>
              <p:nvPr/>
            </p:nvSpPr>
            <p:spPr>
              <a:xfrm>
                <a:off x="1154160" y="1981080"/>
                <a:ext cx="32576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1154160" y="1981080"/>
                <a:ext cx="3257640" cy="289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16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pic>
        <p:nvPicPr>
          <p:cNvPr id="113" name="Picture 18" descr="MPj01764850000[1]"/>
          <p:cNvPicPr/>
          <p:nvPr/>
        </p:nvPicPr>
        <p:blipFill>
          <a:blip r:embed="rId2"/>
          <a:stretch/>
        </p:blipFill>
        <p:spPr>
          <a:xfrm>
            <a:off x="304920" y="2514600"/>
            <a:ext cx="45720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Comic Sans MS"/>
              </a:rPr>
              <a:t>plai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plain is a flat area on Earth’s surface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9" descr="MPj01817770000[1]"/>
          <p:cNvPicPr/>
          <p:nvPr/>
        </p:nvPicPr>
        <p:blipFill>
          <a:blip r:embed="rId1"/>
          <a:stretch/>
        </p:blipFill>
        <p:spPr>
          <a:xfrm>
            <a:off x="647640" y="264636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Comic Sans MS"/>
              </a:rPr>
              <a:t>plateau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95680" y="2133720"/>
            <a:ext cx="4191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 plateau is a flat area higher than the land around i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409284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076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Comic Sans MS"/>
              </a:rPr>
              <a:t>island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95680" y="20574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n island is land that has water all around i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1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0388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cc"/>
                </a:solidFill>
                <a:latin typeface="Comic Sans MS"/>
              </a:rPr>
              <a:t>lake</a:t>
            </a:r>
            <a:endParaRPr b="0" lang="en-US" sz="8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2666880"/>
            <a:ext cx="4033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A lake is water that has land all around i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14" descr="MPj04340860000[1]"/>
          <p:cNvPicPr/>
          <p:nvPr/>
        </p:nvPicPr>
        <p:blipFill>
          <a:blip r:embed="rId1"/>
          <a:stretch/>
        </p:blipFill>
        <p:spPr>
          <a:xfrm>
            <a:off x="304920" y="1752480"/>
            <a:ext cx="40384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Comic Sans MS"/>
              </a:rPr>
              <a:t>ocean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43400" y="213372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Oceans are the largest bodies of water on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0" descr="MPj04331880000[1]"/>
          <p:cNvPicPr/>
          <p:nvPr/>
        </p:nvPicPr>
        <p:blipFill>
          <a:blip r:embed="rId1"/>
          <a:stretch/>
        </p:blipFill>
        <p:spPr>
          <a:xfrm>
            <a:off x="228600" y="2438280"/>
            <a:ext cx="4343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32Z</dcterms:created>
  <dc:creator>Jefferson County Schools</dc:creator>
  <dc:description/>
  <dc:language>en-US</dc:language>
  <cp:lastModifiedBy>Tarean Anthony</cp:lastModifiedBy>
  <dcterms:modified xsi:type="dcterms:W3CDTF">2011-10-24T16:33:55Z</dcterms:modified>
  <cp:revision>36</cp:revision>
  <dc:subject/>
  <dc:title>PowerPoint Presentation</dc:title>
</cp:coreProperties>
</file>